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6645C-9A50-4E38-A45E-7A7FFAC7F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66F75-F4A0-4C8A-88E6-D5B9A38C5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D264E-F168-4B55-8A4C-27D114C17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76D84-2C58-4894-B572-B38E8794B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7680F8-9F2E-4796-9958-81472F88E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02733-054A-4C43-880E-2AA17A268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BCFED-EEDB-41B8-A914-4C8A7D76F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1CE87-E8D3-4D5C-AEEC-D11938935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E5AD9-639D-4509-8403-487BD6AB7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35B4B-508B-4F62-94FD-E0FE863C8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B4A30-E6E5-4109-8303-3669280C9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8538E-F869-484D-BDCE-0DD842408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0E641-C85B-4BE3-A0E0-698E01163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39C56-4318-4BA1-9CED-804032B64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0731D-B08B-4F6F-8EFE-3435077D7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9F723-80D0-44AB-A761-86FD3271D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2FF59-AC85-46A7-807A-5AE7148DB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2EDB0-BE63-4013-BDEA-3572722E2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245D1-5169-4824-B8DA-1B130D53F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8202E-9F10-4ED5-93AA-56DA88A65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A2E8C-B518-43B5-9638-F8773DB1E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4FB58-53E0-41E0-AC0E-8A4613DE9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DEE89-2BDA-4E95-A45D-DF333132B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A7C1C-FCAB-4B81-B355-7DE5BC7B0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025D-5AF8-4085-A7DC-BB20267F9BD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1E7B-1393-493F-A4B9-82E06943D32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S Imperialism</a:t>
            </a:r>
            <a:endParaRPr b="0" lang="en-US" sz="4400" spc="-1" strike="noStrike">
              <a:solidFill>
                <a:srgbClr val="003366"/>
              </a:solidFill>
              <a:latin typeface="Arial"/>
            </a:endParaRPr>
          </a:p>
        </p:txBody>
      </p:sp>
      <p:sp>
        <p:nvSpPr>
          <p:cNvPr id="211" name="PlaceHolder 2"/>
          <p:cNvSpPr>
            <a:spLocks noGrp="1"/>
          </p:cNvSpPr>
          <p:nvPr>
            <p:ph type="subTitle"/>
          </p:nvPr>
        </p:nvSpPr>
        <p:spPr>
          <a:xfrm>
            <a:off x="1066680" y="2860560"/>
            <a:ext cx="7391520" cy="3114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late 19th/early 20th century, America was looking to expand, hoping to gain natural resources leading to financial benefits, and to disprove the perception that a young nation is a weak on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nnexation of Hawaii and territories won during the Spanish-American War were among the colonies taken by the US. Also, the overthrowing of Columbian control in panama for the purpose of canal construction in the interest of US business international shipping and colony enforcemen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s and Cons</a:t>
            </a:r>
            <a:endParaRPr b="0" lang="en-US" sz="4400" spc="-1" strike="noStrike">
              <a:solidFill>
                <a:srgbClr val="003366"/>
              </a:solidFill>
              <a:latin typeface="Arial"/>
            </a:endParaRPr>
          </a:p>
        </p:txBody>
      </p:sp>
      <p:sp>
        <p:nvSpPr>
          <p:cNvPr id="21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in favor of an imperialistic America stated that it was necessary for the security of the nation and that they would not be respected if they did not follow the trend set by other countries of annexing weaker societies. There were also significant financial benefits to imperializing.</a:t>
            </a:r>
            <a:endParaRPr b="0" lang="en-US" sz="2800" spc="-1" strike="noStrike">
              <a:solidFill>
                <a:srgbClr val="000000"/>
              </a:solidFill>
              <a:latin typeface="Arial"/>
            </a:endParaRPr>
          </a:p>
          <a:p>
            <a:pPr marL="274320" indent="-27432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against imperialism said that it was immoral to assimilate other countries simply because our military had an upper hand. The destruction of foreign cultures was not looked kindly upon by these individuals.</a:t>
            </a:r>
            <a:endParaRPr b="0" lang="en-US" sz="28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16:35:53Z</dcterms:created>
  <dc:creator>Yarmouth Schools</dc:creator>
  <dc:description/>
  <dc:language>en-US</dc:language>
  <cp:lastModifiedBy>YHS Teacher</cp:lastModifiedBy>
  <dcterms:modified xsi:type="dcterms:W3CDTF">2009-06-15T16:31:24Z</dcterms:modified>
  <cp:revision>3</cp:revision>
  <dc:subject/>
  <dc:title>US Imperialism</dc:title>
</cp:coreProperties>
</file>